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4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6DA2BB1-B09A-4964-86CE-D40352F78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BB8FEC8-8F48-4F73-9E54-3E7FB9834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C9958ED-2AFA-4CEE-8F50-DFC743402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1F4D37E-6291-418C-96D3-8444311CA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7766BA7-0939-4196-B57B-8B7C0CFE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21CB808-10BF-4641-AD3C-7E77834A8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F616A77-2D4C-462C-8EEE-60B4CD6D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285A73-D689-4484-881A-48F97C93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B43FE8-1DA1-4FC9-8AD8-D1FFBBD1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B90180-C178-4F69-A150-C877D44A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790BDF1-C30F-48A6-8FB4-031E8EAB6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D5BE9E-EAE0-4F5C-A017-D839F094A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26F8B88-2053-454C-8770-8B1CF7D5D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DF88E76-6CB8-44ED-B8CE-7839583D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E7DBF8-D2E2-459D-A33F-1C0CDA8B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5C73404-3D46-453C-912B-0684029C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33CC06F-4058-46DB-9EF2-7228535C0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29C1AB0-D3F1-480F-BABD-79BBC840A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266FA67-0B00-4FEC-913A-5D3BFE4F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2369D1-F177-4559-B406-F941F28B2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89762E-A636-448A-B2C4-DF0FB70A6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D65E19-27E6-4D8E-B199-A9032FA8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C2C990-486E-41CF-A586-E8FFC243F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02E0F38-BD45-4609-8AEE-1188863D7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1289E4F-C6E7-4875-A13D-283345652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83EB71-7DCC-4BBB-9EB3-62AB49422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FF92ED-8602-4CC7-8EF0-3E491C63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5A1CA7-A7F7-41BC-87E5-60D9EB71E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NASA"/>
          <p:cNvPicPr/>
          <p:nvPr/>
        </p:nvPicPr>
        <p:blipFill>
          <a:blip r:embed="rId2"/>
          <a:stretch/>
        </p:blipFill>
        <p:spPr>
          <a:xfrm>
            <a:off x="8534520" y="6302520"/>
            <a:ext cx="561960" cy="47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Proliferation of Metadata Standards and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Evolution of NASA’s Global Change Master Directory (GCMD) Standard for Uses in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arth Science Data Discovery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44197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anping Mao &amp; GCMD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IP Federa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9-10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1820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F Population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20920" y="6248520"/>
            <a:ext cx="8031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lds over 19,000 metadata records (&gt; 20 petabytes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ATS_TOTAL_DIFS.png"/>
          <p:cNvPicPr/>
          <p:nvPr/>
        </p:nvPicPr>
        <p:blipFill>
          <a:blip r:embed="rId1"/>
          <a:stretch/>
        </p:blipFill>
        <p:spPr>
          <a:xfrm>
            <a:off x="685800" y="838080"/>
            <a:ext cx="73915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F Population by Earth Science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IF_POP.PNG"/>
          <p:cNvPicPr/>
          <p:nvPr/>
        </p:nvPicPr>
        <p:blipFill>
          <a:blip r:embed="rId1"/>
          <a:stretch/>
        </p:blipFill>
        <p:spPr>
          <a:xfrm>
            <a:off x="533520" y="1066680"/>
            <a:ext cx="79675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140120" y="380880"/>
            <a:ext cx="65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earches by Controlled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DIF_SEARCH.PNG"/>
          <p:cNvPicPr/>
          <p:nvPr/>
        </p:nvPicPr>
        <p:blipFill>
          <a:blip r:embed="rId1"/>
          <a:stretch/>
        </p:blipFill>
        <p:spPr>
          <a:xfrm>
            <a:off x="685800" y="1143000"/>
            <a:ext cx="7699320" cy="53341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457200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4/2000 – 12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6"/>
          <p:cNvCxnSpPr/>
          <p:nvPr/>
        </p:nvCxnSpPr>
        <p:spPr>
          <a:xfrm flipV="1">
            <a:off x="3962520" y="579096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SIP DIFs in GCM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4" name="Picture 2" descr="ESIP_DIF_POP.png"/>
          <p:cNvPicPr/>
          <p:nvPr/>
        </p:nvPicPr>
        <p:blipFill>
          <a:blip r:embed="rId1"/>
          <a:stretch/>
        </p:blipFill>
        <p:spPr>
          <a:xfrm>
            <a:off x="685800" y="1447920"/>
            <a:ext cx="7218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CMD Overview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NASA and NASA’s partn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OSDI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I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CEOS/IDN, FGDC/CSD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143000" y="1752480"/>
            <a:ext cx="6886440" cy="678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online catalo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or descripti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SA’s space and Earth science data sets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447920" y="3124080"/>
            <a:ext cx="640080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etadata discovery syst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rth science data and data-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7"/>
          <p:cNvSpPr/>
          <p:nvPr/>
        </p:nvSpPr>
        <p:spPr>
          <a:xfrm>
            <a:off x="4114800" y="2514600"/>
            <a:ext cx="53352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1828800" y="101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GCMD and What’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Home_Page.JPG"/>
          <p:cNvPicPr/>
          <p:nvPr/>
        </p:nvPicPr>
        <p:blipFill>
          <a:blip r:embed="rId1"/>
          <a:stretch/>
        </p:blipFill>
        <p:spPr>
          <a:xfrm>
            <a:off x="1143000" y="762120"/>
            <a:ext cx="72388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portals2a.jpg"/>
          <p:cNvPicPr/>
          <p:nvPr/>
        </p:nvPicPr>
        <p:blipFill>
          <a:blip r:embed="rId1"/>
          <a:stretch/>
        </p:blipFill>
        <p:spPr>
          <a:xfrm>
            <a:off x="822240" y="279360"/>
            <a:ext cx="7026480" cy="642456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6400800" y="1600200"/>
            <a:ext cx="3049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3124080" y="1981080"/>
            <a:ext cx="304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"/>
          <p:cNvSpPr/>
          <p:nvPr/>
        </p:nvSpPr>
        <p:spPr>
          <a:xfrm>
            <a:off x="4191120" y="2209680"/>
            <a:ext cx="4572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3"/>
          <p:cNvSpPr/>
          <p:nvPr/>
        </p:nvSpPr>
        <p:spPr>
          <a:xfrm>
            <a:off x="3276720" y="3124080"/>
            <a:ext cx="30456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5"/>
          <p:cNvSpPr/>
          <p:nvPr/>
        </p:nvSpPr>
        <p:spPr>
          <a:xfrm>
            <a:off x="2895480" y="3505320"/>
            <a:ext cx="2286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8"/>
          <p:cNvSpPr/>
          <p:nvPr/>
        </p:nvSpPr>
        <p:spPr>
          <a:xfrm>
            <a:off x="4876920" y="5410080"/>
            <a:ext cx="53316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9"/>
          <p:cNvSpPr/>
          <p:nvPr/>
        </p:nvSpPr>
        <p:spPr>
          <a:xfrm>
            <a:off x="7238880" y="3505320"/>
            <a:ext cx="3049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portals1a.jpg"/>
          <p:cNvPicPr/>
          <p:nvPr/>
        </p:nvPicPr>
        <p:blipFill>
          <a:blip r:embed="rId1"/>
          <a:stretch/>
        </p:blipFill>
        <p:spPr>
          <a:xfrm>
            <a:off x="822240" y="154080"/>
            <a:ext cx="7178760" cy="656424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3"/>
          <p:cNvSpPr/>
          <p:nvPr/>
        </p:nvSpPr>
        <p:spPr>
          <a:xfrm>
            <a:off x="5334120" y="3429000"/>
            <a:ext cx="4572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4"/>
          <p:cNvSpPr/>
          <p:nvPr/>
        </p:nvSpPr>
        <p:spPr>
          <a:xfrm>
            <a:off x="3200400" y="3581280"/>
            <a:ext cx="2286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5"/>
          <p:cNvSpPr/>
          <p:nvPr/>
        </p:nvSpPr>
        <p:spPr>
          <a:xfrm>
            <a:off x="6172200" y="1905120"/>
            <a:ext cx="2286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6"/>
          <p:cNvSpPr/>
          <p:nvPr/>
        </p:nvSpPr>
        <p:spPr>
          <a:xfrm>
            <a:off x="2590920" y="1905120"/>
            <a:ext cx="3045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8"/>
          <p:cNvGraphicFramePr/>
          <p:nvPr/>
        </p:nvGraphicFramePr>
        <p:xfrm>
          <a:off x="154080" y="1224000"/>
          <a:ext cx="8807400" cy="49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224000"/>
                    <a:ext cx="880740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11"/>
          <p:cNvSpPr/>
          <p:nvPr/>
        </p:nvSpPr>
        <p:spPr>
          <a:xfrm>
            <a:off x="2111760" y="30492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W Stats – Total H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4"/>
          <p:cNvCxnSpPr/>
          <p:nvPr/>
        </p:nvCxnSpPr>
        <p:spPr>
          <a:xfrm>
            <a:off x="7772400" y="2590920"/>
            <a:ext cx="38160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hart 1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8016840" cy="5218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1566000" y="304920"/>
            <a:ext cx="61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W Stats – Unique Vis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14360" y="685800"/>
          <a:ext cx="8424720" cy="3370320"/>
        </p:xfrm>
        <a:graphic>
          <a:graphicData uri="http://schemas.openxmlformats.org/drawingml/2006/table">
            <a:tbl>
              <a:tblPr/>
              <a:tblGrid>
                <a:gridCol w="752400"/>
                <a:gridCol w="1152720"/>
                <a:gridCol w="1150920"/>
                <a:gridCol w="1152360"/>
                <a:gridCol w="1152720"/>
                <a:gridCol w="1155600"/>
                <a:gridCol w="190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OSCOP/CS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R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NZLI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I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D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C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GDC/CSDG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ID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D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SO19115/ NAP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92"/>
          <p:cNvSpPr/>
          <p:nvPr/>
        </p:nvSpPr>
        <p:spPr>
          <a:xfrm>
            <a:off x="1371600" y="6095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3"/>
          <p:cNvSpPr/>
          <p:nvPr/>
        </p:nvSpPr>
        <p:spPr>
          <a:xfrm>
            <a:off x="457200" y="4114800"/>
            <a:ext cx="9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1960           1970            1980           1990           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4"/>
          <p:cNvSpPr/>
          <p:nvPr/>
        </p:nvSpPr>
        <p:spPr>
          <a:xfrm>
            <a:off x="457200" y="762120"/>
            <a:ext cx="647712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5"/>
          <p:cNvSpPr/>
          <p:nvPr/>
        </p:nvSpPr>
        <p:spPr>
          <a:xfrm>
            <a:off x="1143000" y="1066680"/>
            <a:ext cx="5791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6"/>
          <p:cNvSpPr/>
          <p:nvPr/>
        </p:nvSpPr>
        <p:spPr>
          <a:xfrm>
            <a:off x="3048120" y="1447920"/>
            <a:ext cx="388620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7"/>
          <p:cNvSpPr/>
          <p:nvPr/>
        </p:nvSpPr>
        <p:spPr>
          <a:xfrm>
            <a:off x="3124080" y="1752480"/>
            <a:ext cx="38102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8"/>
          <p:cNvSpPr/>
          <p:nvPr/>
        </p:nvSpPr>
        <p:spPr>
          <a:xfrm>
            <a:off x="3581280" y="2133720"/>
            <a:ext cx="335304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9"/>
          <p:cNvSpPr/>
          <p:nvPr/>
        </p:nvSpPr>
        <p:spPr>
          <a:xfrm>
            <a:off x="3886200" y="2438280"/>
            <a:ext cx="30481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0"/>
          <p:cNvSpPr/>
          <p:nvPr/>
        </p:nvSpPr>
        <p:spPr>
          <a:xfrm>
            <a:off x="4038480" y="3124080"/>
            <a:ext cx="28958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1"/>
          <p:cNvSpPr/>
          <p:nvPr/>
        </p:nvSpPr>
        <p:spPr>
          <a:xfrm>
            <a:off x="3886200" y="2743200"/>
            <a:ext cx="304812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2"/>
          <p:cNvSpPr/>
          <p:nvPr/>
        </p:nvSpPr>
        <p:spPr>
          <a:xfrm>
            <a:off x="4038480" y="3429000"/>
            <a:ext cx="289584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3"/>
          <p:cNvSpPr/>
          <p:nvPr/>
        </p:nvSpPr>
        <p:spPr>
          <a:xfrm>
            <a:off x="4952880" y="3809880"/>
            <a:ext cx="19814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4"/>
          <p:cNvSpPr/>
          <p:nvPr/>
        </p:nvSpPr>
        <p:spPr>
          <a:xfrm>
            <a:off x="685800" y="1522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5"/>
          <p:cNvSpPr/>
          <p:nvPr/>
        </p:nvSpPr>
        <p:spPr>
          <a:xfrm>
            <a:off x="762120" y="106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tadata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6"/>
          <p:cNvSpPr/>
          <p:nvPr/>
        </p:nvSpPr>
        <p:spPr>
          <a:xfrm>
            <a:off x="0" y="449568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60: ROSCOP/CSR (Report of Observations/Samples collected by Oceanographic Programmes Cruise Summary Re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70: MARC (Machine-Readable Catalog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86: Australia New Zealand Land Information Council (ANZ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1988: Directory Interchange Format (DIF)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91: European Directory of Marine Environmental Datasets (EDME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94: Dublin Core Metadata Initiative (DCM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94: US Federal Geographic Data Committee (FGDC) Content Standard for Digital Geospatial Metadata (CSDG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95: Directory Information Describing Geo-referenced Datasets (DID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2001: NOAA/NODC Electronic Data Description Format (ED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2003: ISO-19115 Geographic Information Metadata International Standard &gt; ISO North American Profile (N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026"/>
          <p:cNvSpPr/>
          <p:nvPr/>
        </p:nvSpPr>
        <p:spPr>
          <a:xfrm>
            <a:off x="0" y="10620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Map/Date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027"/>
          <p:cNvGrpSpPr/>
          <p:nvPr/>
        </p:nvGrpSpPr>
        <p:grpSpPr>
          <a:xfrm>
            <a:off x="685800" y="1219320"/>
            <a:ext cx="7543080" cy="5409720"/>
            <a:chOff x="685800" y="1219320"/>
            <a:chExt cx="7543080" cy="5409720"/>
          </a:xfrm>
        </p:grpSpPr>
        <p:pic>
          <p:nvPicPr>
            <p:cNvPr id="153" name="Picture 1028" descr=""/>
            <p:cNvPicPr/>
            <p:nvPr/>
          </p:nvPicPr>
          <p:blipFill>
            <a:blip r:embed="rId1"/>
            <a:srcRect l="4936" t="2855" r="7064" b="4069"/>
            <a:stretch/>
          </p:blipFill>
          <p:spPr>
            <a:xfrm>
              <a:off x="685800" y="1219320"/>
              <a:ext cx="7519680" cy="54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029" descr=""/>
            <p:cNvPicPr/>
            <p:nvPr/>
          </p:nvPicPr>
          <p:blipFill>
            <a:blip r:embed="rId2"/>
            <a:stretch/>
          </p:blipFill>
          <p:spPr>
            <a:xfrm>
              <a:off x="6516720" y="3153960"/>
              <a:ext cx="1558080" cy="39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030" descr=""/>
            <p:cNvPicPr/>
            <p:nvPr/>
          </p:nvPicPr>
          <p:blipFill>
            <a:blip r:embed="rId3"/>
            <a:srcRect l="7179" t="39081" r="76673" b="20103"/>
            <a:stretch/>
          </p:blipFill>
          <p:spPr>
            <a:xfrm>
              <a:off x="712080" y="2513160"/>
              <a:ext cx="1444320" cy="263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031"/>
            <p:cNvSpPr/>
            <p:nvPr/>
          </p:nvSpPr>
          <p:spPr>
            <a:xfrm>
              <a:off x="685800" y="5149440"/>
              <a:ext cx="1380600" cy="321120"/>
            </a:xfrm>
            <a:prstGeom prst="rect">
              <a:avLst/>
            </a:prstGeom>
            <a:solidFill>
              <a:srgbClr val="e8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32"/>
            <p:cNvSpPr/>
            <p:nvPr/>
          </p:nvSpPr>
          <p:spPr>
            <a:xfrm>
              <a:off x="685800" y="1221480"/>
              <a:ext cx="7543080" cy="5403600"/>
            </a:xfrm>
            <a:prstGeom prst="rect">
              <a:avLst/>
            </a:prstGeom>
            <a:noFill/>
            <a:ln w="38160">
              <a:solidFill>
                <a:srgbClr val="448e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033"/>
          <p:cNvSpPr/>
          <p:nvPr/>
        </p:nvSpPr>
        <p:spPr>
          <a:xfrm>
            <a:off x="1600200" y="6858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bines Spatial, Temporal &amp; Full-Tex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447920" y="45720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ry Refinement Examp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1640" y="1371600"/>
            <a:ext cx="6217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ry by Science Key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mosphere &gt; Air Quality &gt; Carbon Dioxid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Atmosphere"/>
          <p:cNvPicPr/>
          <p:nvPr/>
        </p:nvPicPr>
        <p:blipFill>
          <a:blip r:embed="rId1"/>
          <a:stretch/>
        </p:blipFill>
        <p:spPr>
          <a:xfrm>
            <a:off x="380880" y="2362320"/>
            <a:ext cx="396252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Oval 12"/>
          <p:cNvSpPr/>
          <p:nvPr/>
        </p:nvSpPr>
        <p:spPr>
          <a:xfrm>
            <a:off x="228600" y="4191120"/>
            <a:ext cx="2209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CO2-1.jpg"/>
          <p:cNvPicPr/>
          <p:nvPr/>
        </p:nvPicPr>
        <p:blipFill>
          <a:blip r:embed="rId2"/>
          <a:stretch/>
        </p:blipFill>
        <p:spPr>
          <a:xfrm>
            <a:off x="4495680" y="2362320"/>
            <a:ext cx="4270320" cy="3733560"/>
          </a:xfrm>
          <a:prstGeom prst="rect">
            <a:avLst/>
          </a:prstGeom>
          <a:ln w="0">
            <a:noFill/>
          </a:ln>
        </p:spPr>
      </p:pic>
      <p:sp>
        <p:nvSpPr>
          <p:cNvPr id="164" name="Oval 13"/>
          <p:cNvSpPr/>
          <p:nvPr/>
        </p:nvSpPr>
        <p:spPr>
          <a:xfrm>
            <a:off x="4419720" y="4648320"/>
            <a:ext cx="12952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523880" y="533520"/>
            <a:ext cx="61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ry Refinement 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-52560" y="1523880"/>
            <a:ext cx="43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fine b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b9150e"/>
                </a:solidFill>
                <a:latin typeface="Tahoma"/>
              </a:rPr>
              <a:t>Project [ESIP]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67400" y="152388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2362320" y="46483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CO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334040" cy="4038480"/>
          </a:xfrm>
          <a:prstGeom prst="rect">
            <a:avLst/>
          </a:prstGeom>
          <a:ln w="0">
            <a:noFill/>
          </a:ln>
        </p:spPr>
      </p:pic>
      <p:sp>
        <p:nvSpPr>
          <p:cNvPr id="170" name="Oval 11"/>
          <p:cNvSpPr/>
          <p:nvPr/>
        </p:nvSpPr>
        <p:spPr>
          <a:xfrm>
            <a:off x="4419720" y="3657600"/>
            <a:ext cx="43434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CO2-2.jpg"/>
          <p:cNvPicPr/>
          <p:nvPr/>
        </p:nvPicPr>
        <p:blipFill>
          <a:blip r:embed="rId2"/>
          <a:stretch/>
        </p:blipFill>
        <p:spPr>
          <a:xfrm>
            <a:off x="69840" y="2133720"/>
            <a:ext cx="4357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9"/>
          <p:cNvSpPr/>
          <p:nvPr/>
        </p:nvSpPr>
        <p:spPr>
          <a:xfrm>
            <a:off x="2209680" y="1523880"/>
            <a:ext cx="457200" cy="228600"/>
          </a:xfrm>
          <a:prstGeom prst="ellipse">
            <a:avLst/>
          </a:prstGeom>
          <a:noFill/>
          <a:ln w="38160">
            <a:solidFill>
              <a:srgbClr val="b91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CO2-5.jpg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a SERF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5" name="Picture 4" descr="SERF"/>
          <p:cNvPicPr/>
          <p:nvPr/>
        </p:nvPicPr>
        <p:blipFill>
          <a:blip r:embed="rId1"/>
          <a:stretch/>
        </p:blipFill>
        <p:spPr>
          <a:xfrm>
            <a:off x="380880" y="990720"/>
            <a:ext cx="8352000" cy="2743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784872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F (Service Entry Resource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s Earth science related tools, software, and ser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direct links to analysis, visualization, and processing software; online programs; and geospatial web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between services and associated data set descri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RF Population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SERF_POP.PNG"/>
          <p:cNvPicPr/>
          <p:nvPr/>
        </p:nvPicPr>
        <p:blipFill>
          <a:blip r:embed="rId1"/>
          <a:stretch/>
        </p:blipFill>
        <p:spPr>
          <a:xfrm>
            <a:off x="442800" y="1362240"/>
            <a:ext cx="80377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RF Population by Service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SERF_TOPIC.PNG"/>
          <p:cNvPicPr/>
          <p:nvPr/>
        </p:nvPicPr>
        <p:blipFill>
          <a:blip r:embed="rId1"/>
          <a:stretch/>
        </p:blipFill>
        <p:spPr>
          <a:xfrm>
            <a:off x="844560" y="1281240"/>
            <a:ext cx="761364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SIP SERFs in GCM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2" name="Picture 2" descr="ESIP_SERF_POP.png"/>
          <p:cNvPicPr/>
          <p:nvPr/>
        </p:nvPicPr>
        <p:blipFill>
          <a:blip r:embed="rId1"/>
          <a:stretch/>
        </p:blipFill>
        <p:spPr>
          <a:xfrm>
            <a:off x="533520" y="1219320"/>
            <a:ext cx="77724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3718080"/>
            <a:ext cx="9144000" cy="1311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52280" y="1600200"/>
            <a:ext cx="182880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100 DIF in the prototype NMD databas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09480" y="31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91440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895480" y="31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12408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057400" y="15238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 was formally approved and adopted by a CI science advisory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172200" y="31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876920" y="152388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EOS Data Working Group (DWG) began attending the CI Workshop meetings and provided valuable feedback on the DIF 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371600" y="609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3718080"/>
            <a:ext cx="9144000" cy="1311120"/>
          </a:xfrm>
          <a:prstGeom prst="rect">
            <a:avLst/>
          </a:prstGeom>
          <a:ln w="0">
            <a:noFill/>
          </a:ln>
        </p:spPr>
      </p:pic>
      <p:sp>
        <p:nvSpPr>
          <p:cNvPr id="77" name="Line 5"/>
          <p:cNvSpPr/>
          <p:nvPr/>
        </p:nvSpPr>
        <p:spPr>
          <a:xfrm>
            <a:off x="91440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52280" y="167652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WGDMGC adopted the directory as a prototype to facilitate global change resear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85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19112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048120" y="167652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MD was renamed the GCMD for its Earth sciences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886200" y="32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562720" y="1676520"/>
            <a:ext cx="32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CMD was selected to serve as NASA's FGDC Clearinghouse node for geospatial meta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723888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934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44792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3718080"/>
            <a:ext cx="9144000" cy="131112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>
            <a:off x="91440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2280" y="1600200"/>
            <a:ext cx="2210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ied ISO 19115/TC211 geospatial metadata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094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380988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5812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743200" y="1905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 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029200" y="160020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 is evolving through input from the user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44792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MCj02403410000[1]"/>
          <p:cNvPicPr/>
          <p:nvPr/>
        </p:nvPicPr>
        <p:blipFill>
          <a:blip r:embed="rId2"/>
          <a:stretch/>
        </p:blipFill>
        <p:spPr>
          <a:xfrm>
            <a:off x="6095880" y="2286000"/>
            <a:ext cx="14446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GCMD Standard for metadata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rectory Interchange 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“controlled vocabulary” 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s an intuitive onli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horing to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reating and validating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l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FGDC and ISO metadata standar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“container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transformer”, XSL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a DIF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7457" t="40689" r="10378" b="10409"/>
          <a:stretch/>
        </p:blipFill>
        <p:spPr>
          <a:xfrm>
            <a:off x="152280" y="1066680"/>
            <a:ext cx="889632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1" name="Title 1"/>
          <p:cNvSpPr/>
          <p:nvPr/>
        </p:nvSpPr>
        <p:spPr>
          <a:xfrm>
            <a:off x="-76320" y="54100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333399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volves to capture additional fields that are useful within the us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14480" y="1066680"/>
            <a:ext cx="8915400" cy="5257800"/>
          </a:xfrm>
          <a:prstGeom prst="rect">
            <a:avLst/>
          </a:prstGeom>
          <a:solidFill>
            <a:srgbClr val="f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53160" y="1944720"/>
            <a:ext cx="1998720" cy="231516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Verdana"/>
                <a:ea typeface="Arial"/>
              </a:rPr>
              <a:t>Required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Entr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Entry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Science Key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SO Topic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Metadata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Metadata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908440" y="1604880"/>
            <a:ext cx="2545920" cy="401868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Verdana"/>
                <a:ea typeface="Arial"/>
              </a:rPr>
              <a:t>Recommended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 Set 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Personnel 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(DIF Auth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Tempor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Spati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Access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Use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Related 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IF Revision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791320" y="1879560"/>
            <a:ext cx="3124080" cy="328860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99"/>
                </a:solidFill>
                <a:uFillTx/>
                <a:latin typeface="Verdana"/>
                <a:ea typeface="Arial"/>
              </a:rPr>
              <a:t>Optional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Key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leo-Tempor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 Set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ata Set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Originat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Multimedia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rent 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D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IF Creat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Last DIF Revis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Future DIF Review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066680" y="182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IF and FGDC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CSDGM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28600" y="4495680"/>
            <a:ext cx="2286000" cy="100656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3300"/>
                </a:solidFill>
                <a:latin typeface="Verdana"/>
                <a:ea typeface="Arial"/>
              </a:rPr>
              <a:t>*Mandatory FGD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  <a:ea typeface="Arial"/>
              </a:rPr>
              <a:t>*Mandatory under certain conditions or optional FGD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52280" y="1066680"/>
            <a:ext cx="8801280" cy="5181840"/>
          </a:xfrm>
          <a:prstGeom prst="rect">
            <a:avLst/>
          </a:prstGeom>
          <a:solidFill>
            <a:srgbClr val="f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2400" y="1841400"/>
            <a:ext cx="2206080" cy="231516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Verdana"/>
                <a:ea typeface="Arial"/>
              </a:rPr>
              <a:t>Required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Entr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Entry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Science Key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Arial"/>
              </a:rPr>
              <a:t>*</a:t>
            </a: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ISO Topic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Arial"/>
              </a:rPr>
              <a:t>*</a:t>
            </a:r>
            <a:r>
              <a:rPr b="1" lang="en-US" sz="1600" spc="-1" strike="noStrike">
                <a:solidFill>
                  <a:srgbClr val="ff9933"/>
                </a:solidFill>
                <a:latin typeface="Verdana"/>
                <a:ea typeface="Arial"/>
              </a:rPr>
              <a:t>Metadata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Arial"/>
              </a:rPr>
              <a:t>*</a:t>
            </a:r>
            <a:r>
              <a:rPr b="1" lang="en-US" sz="1600" spc="-1" strike="noStrike">
                <a:solidFill>
                  <a:srgbClr val="ff9933"/>
                </a:solidFill>
                <a:latin typeface="Verdana"/>
                <a:ea typeface="Arial"/>
              </a:rPr>
              <a:t>Metadata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984760" y="1344600"/>
            <a:ext cx="2545920" cy="450540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Verdana"/>
                <a:ea typeface="Arial"/>
              </a:rPr>
              <a:t>Recommended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Set C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set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set Releas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Personnel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 (DIF Auth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Tempor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Spati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ccess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Use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Related 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IF Revision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791320" y="1957320"/>
            <a:ext cx="3124080" cy="328860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99"/>
                </a:solidFill>
                <a:uFillTx/>
                <a:latin typeface="Verdana"/>
                <a:ea typeface="Arial"/>
              </a:rPr>
              <a:t>Optional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Key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leo-Tempor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ata Set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 Set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riginat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Multimedia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rent 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D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IF Creat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Last DIF Revis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uture DIF Review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8600" y="4392720"/>
            <a:ext cx="2362320" cy="118908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Verdana"/>
                <a:ea typeface="Arial"/>
              </a:rPr>
              <a:t>*Fields added for ISO19115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3300"/>
                </a:solidFill>
                <a:latin typeface="Verdana"/>
                <a:ea typeface="Arial"/>
              </a:rPr>
              <a:t>*Mandatory ISO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  <a:ea typeface="Arial"/>
              </a:rPr>
              <a:t>*Mandatory under certain conditions or optional ISO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66680" y="243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IF and ISO 19115 Core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4:20:55Z</dcterms:created>
  <dc:creator> </dc:creator>
  <dc:description/>
  <dc:language>en-US</dc:language>
  <cp:lastModifiedBy>tstevens</cp:lastModifiedBy>
  <cp:lastPrinted>2007-07-13T18:55:30Z</cp:lastPrinted>
  <dcterms:modified xsi:type="dcterms:W3CDTF">2008-01-16T12:48:18Z</dcterms:modified>
  <cp:revision>267</cp:revision>
  <dc:subject/>
  <dc:title>Metadata Standards In The GCMD</dc:title>
</cp:coreProperties>
</file>